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6.pct" ContentType="image/x-pict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7.pct" ContentType="image/x-pict"/>
  <Override PartName="/ppt/media/image10.png" ContentType="image/png"/>
  <Override PartName="/ppt/media/image8.pct" ContentType="image/x-pict"/>
  <Override PartName="/ppt/media/image13.pct" ContentType="image/x-pict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D4AF-B1CD-4938-A014-BBCBE95C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; to share the Web 2.0 programs that I have used in the past year since receiving the PSLA professional Development award. Aim is to give you ideas to take back to school to use in your library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note speaker is Malcolm Glad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en Br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tes you can use and they are all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997-AA86-49BA-8655-9116C97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28A-9222-48AE-A40A-B07080FA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BDC-BD92-4B2B-A535-0A57691A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1B0-4C3E-426E-9827-3BB38171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1729-89FC-4A6F-80AC-9C8C8CD4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E8A-5226-4C6F-9C67-2C44795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3B53-882B-46A4-BD8A-5B33018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05D-CB3C-497D-9B0D-757AA0E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2A99-1355-4977-BACB-D96735BC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0E2E-88A9-41AC-81F4-E5EA578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E6F8-731C-4B29-806D-A2DC4FD3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96E-8B45-4259-BD86-C4443345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304-8801-43A9-8A29-CB62F4A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C1DC-6A06-4A36-ACA9-9D0639A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1499-F6AD-406F-AA8B-447FC9B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378-6E82-437E-8085-6FB8874D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BD4F-C7CD-4DA9-98AF-E54CECF8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6BE-2D17-4780-8448-17B9A7D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31B-5A37-4B5D-AC3A-8A6CC65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954-8021-465A-BFBB-D1027913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329-223F-4129-B5B2-50DE8AB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3D6-313C-4A1D-87F4-F56E806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162-FC17-4CFB-BD21-6A267AD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C1A-05E1-4C3E-8A4E-C96898E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B23B-68FC-48BD-9B70-B3EF243AD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CC2-0A13-44FC-89ED-0467DAB37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" TargetMode="External"/><Relationship Id="rId3" Type="http://schemas.openxmlformats.org/officeDocument/2006/relationships/hyperlink" Target="http://animoto.com/" TargetMode="External"/><Relationship Id="rId4" Type="http://schemas.openxmlformats.org/officeDocument/2006/relationships/hyperlink" Target="http://www.mixbook.com/" TargetMode="External"/><Relationship Id="rId5" Type="http://schemas.openxmlformats.org/officeDocument/2006/relationships/hyperlink" Target="http://www.mixbook.com/" TargetMode="External"/><Relationship Id="rId6" Type="http://schemas.openxmlformats.org/officeDocument/2006/relationships/hyperlink" Target="http://www.mixbook.com/" TargetMode="External"/><Relationship Id="rId7" Type="http://schemas.openxmlformats.org/officeDocument/2006/relationships/hyperlink" Target="http://www.mixbook.com/gallery/education" TargetMode="External"/><Relationship Id="rId8" Type="http://schemas.openxmlformats.org/officeDocument/2006/relationships/hyperlink" Target="http://www.mixbook.com/gallery/education" TargetMode="External"/><Relationship Id="rId9" Type="http://schemas.openxmlformats.org/officeDocument/2006/relationships/hyperlink" Target="http://www.mixbook.com/gallery/education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nimoto.com/play/WJFleQpkTZY2zXTK1pODiA?autostart=true" TargetMode="Externa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imoto.com/play/sbDNI6nSN1UFOdc6qyNbrg?autostart=true" TargetMode="External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bwiki.com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shwirc.blogspot.com/" TargetMode="External"/><Relationship Id="rId2" Type="http://schemas.openxmlformats.org/officeDocument/2006/relationships/hyperlink" Target="http://jansweb20journey.blogspo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enter.uoregon.edu/ISTE/NECC2009/" TargetMode="External"/><Relationship Id="rId2" Type="http://schemas.openxmlformats.org/officeDocument/2006/relationships/hyperlink" Target="http://center.uoregon.edu/ISTE/NECC2009/" TargetMode="External"/><Relationship Id="rId3" Type="http://schemas.openxmlformats.org/officeDocument/2006/relationships/hyperlink" Target="http://center.uoregon.edu/ISTE/NECC2009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mazon.com/gp/mpd/permalink/m18KFIH7XSEF5H" TargetMode="External"/><Relationship Id="rId2" Type="http://schemas.openxmlformats.org/officeDocument/2006/relationships/hyperlink" Target="http://www.amazon.com/gp/mpd/permalink/m18KFIH7XSEF5H" TargetMode="External"/><Relationship Id="rId3" Type="http://schemas.openxmlformats.org/officeDocument/2006/relationships/hyperlink" Target="http://www.amazon.com/gp/mpd/permalink/m18KFIH7XSEF5H" TargetMode="External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voicethread.com/" TargetMode="External"/><Relationship Id="rId5" Type="http://schemas.openxmlformats.org/officeDocument/2006/relationships/hyperlink" Target="http://voicethread.com/" TargetMode="External"/><Relationship Id="rId6" Type="http://schemas.openxmlformats.org/officeDocument/2006/relationships/hyperlink" Target="http://voicethread.com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Jan’s Web 2.0 Journey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24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ark’s Favorite Sit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//animoto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Impressive multimedia projects from your images. Sign up for the educator ac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 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mixbook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Digital scrapbooks. These are so cool and such a powerful tool. Check out the education gallery: 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8"/>
              </a:rPr>
              <a:t>mixbook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9"/>
              </a:rPr>
              <a:t>.com/gallery/edu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 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ign up @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xperienc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lick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SL Ren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Conference pictures</a:t>
            </a: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5840" y="1219320"/>
            <a:ext cx="5257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- Rode the 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vis’ pink ca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- Second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er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Macintosh HD:Users:albright_j:Desktop:animoto_video-1.mp4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5487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nimoto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Macintosh HD:Users:albright_j:Desktop:animoto_video.mp4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5487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pbwik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ahslibrary.pbwik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cashwirc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aweb20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http://jansweb20journey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Rap to the tune of Soldier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cintosh HD:Users:albright_j:Desktop:Connellsville High Diversity.mov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use podcasts in the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acintosh HD:Users:albright_j:Desktop:French Club Flute.mov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Valley of the Shadow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384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3640" y="6372360"/>
            <a:ext cx="771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80" y="6172200"/>
            <a:ext cx="104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mmons.wikimedia.org/wiki/File:Valley_of_the_Shadow_of_Death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National Education Computing</a:t>
            </a: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44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Conferenc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81536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PSL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eading promo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&amp;N @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pro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exce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kus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UTHOR STOR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's author store - Laurie Halse 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Macintosh HD:Users:albright_j:Desktop:speak.mov" descr=""/>
          <p:cNvPicPr/>
          <p:nvPr/>
        </p:nvPicPr>
        <p:blipFill>
          <a:blip r:embed="rId1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Forest of Hands and Teeth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965240"/>
            <a:ext cx="70992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Forest of Hands and Teeth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amazon</a:t>
            </a: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com/gp/mpd/permalink/m18KFIH7XSEF5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Macintosh HD:Users:albright_j:Desktop:Amazon.com - Entertainment - Explore &quot;The Forest of Hands and Teeth&quot;.mov" descr=""/>
          <p:cNvPicPr/>
          <p:nvPr/>
        </p:nvPicPr>
        <p:blipFill>
          <a:blip r:embed="rId4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RNES &amp; NOBLE</a:t>
            </a:r>
            <a:br>
              <a:rPr sz="4400"/>
            </a:b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@ SCHOOL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61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rnes &amp; Noble @ School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Video Camer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CA Camera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Wikispaces 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s for the Futur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ing for conference makes you an ISTE 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&amp; Leading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iscovery Educa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iscoveryeduca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Wordl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ordl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PA Politician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558720" y="2057400"/>
            <a:ext cx="970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ecap - Now what?</a:t>
            </a:r>
            <a:br>
              <a:rPr sz="4400"/>
            </a:b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ers/resp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technology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NECC 2008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lessons and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for p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.. Learning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eacher Experience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ccording to Mark @ Teacher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2.0 is any website where you can create cont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Definition of web 2.0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load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Macintosh HD:Users:albright_j:Desktop:NLlGopyXT_g.mov" descr=""/>
          <p:cNvPicPr/>
          <p:nvPr/>
        </p:nvPicPr>
        <p:blipFill>
          <a:blip r:embed="rId1"/>
          <a:stretch/>
        </p:blipFill>
        <p:spPr>
          <a:xfrm>
            <a:off x="452124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ccording to Mark @ Teacher Exchang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impact education? I think these sites are so important to education because your students can create (higher level Bloom’s) amazing projects (project-based learning) that engage 21st Century learners with little or no cost.” 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ark’s Favorite Site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wordle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C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 Cloud generator (kids love it!). After your kids write stories or poem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le them! 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//voicethread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.com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 The end of boring slideshows. Sign up for the educator account. 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21:04Z</dcterms:created>
  <dc:creator>casd</dc:creator>
  <dc:description/>
  <dc:language>en-US</dc:language>
  <cp:lastModifiedBy>casd</cp:lastModifiedBy>
  <dcterms:modified xsi:type="dcterms:W3CDTF">2009-05-03T22:09:42Z</dcterms:modified>
  <cp:revision>70</cp:revision>
  <dc:subject/>
  <dc:title>Jan’s Web 2.0 Journey</dc:title>
</cp:coreProperties>
</file>